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E73-BBBC-4812-B6CE-05BC4316B1A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BD09-31FA-406A-925F-CA6A85E6A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DCA-F026-410B-90D6-3BE9800E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37C-0A02-42CA-960F-F8789184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E73-9484-48E8-96BF-A32B7FFA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E63-E1CE-47C4-92CC-9B108AED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B850-0261-4232-A485-51D7E2DB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35CE-2904-4091-A760-DF11199B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8C0B-DE0E-4F14-9B52-8337D381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659-7FE5-4333-BE10-5088DE5C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6934-B627-4855-A516-CA061FC3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2B87-20A9-4370-87F1-9639E8DC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45CC-A4CA-46E4-84DE-1E366C1F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5FB-EB7C-4BAE-BAF6-721334D4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5231-3B47-4C44-A942-BACA7ADD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C39-920F-465E-A31D-12D2C9A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2E80-FD58-46C1-BA5B-BB7901E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5D5-AC42-4916-A2D6-2B402AA4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B518-D5E3-469D-A6B2-6455CBD5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FE0-B0A1-4B6F-828B-2D96A55B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198-194E-49C4-A19D-C3F069F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2B1-C010-4F26-9D68-014D7061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236-3025-4B02-9DE5-14F485C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5DC-31DB-4778-B4FB-BC8D04FB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3E6-8879-4D3D-99C2-98FFC6E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8DE-F1AB-49D6-807C-B85BDEE8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851-B027-40B7-A308-05354351F7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86A7-EB65-4CCA-874A-F4ECCA0DD5C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outu.be/RJU_wrSVQoo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pacity4dev.eu/contact" TargetMode="External"/><Relationship Id="rId2" Type="http://schemas.openxmlformats.org/officeDocument/2006/relationships/hyperlink" Target="mailto:capacity4dev@ec.europa.e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7120" y="371484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www.capacity4dev.eu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Capacity development through knowledge shar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476000" y="1916280"/>
            <a:ext cx="61722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</a:t>
            </a:r>
            <a:r>
              <a:rPr b="1" lang="en-GB" sz="2800" spc="-1" strike="noStrike" baseline="30000">
                <a:solidFill>
                  <a:srgbClr val="ffd624"/>
                </a:solidFill>
                <a:latin typeface="Verdana"/>
              </a:rPr>
              <a:t>nd</a:t>
            </a: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 Regional Technical Meeting of the GCCA Intra-ACP Programme</a:t>
            </a:r>
            <a:br>
              <a:rPr sz="2800"/>
            </a:br>
            <a:br>
              <a:rPr sz="3200"/>
            </a:br>
            <a:r>
              <a:rPr b="0" lang="en-GB" sz="2000" spc="-1" strike="noStrike">
                <a:solidFill>
                  <a:srgbClr val="ffd624"/>
                </a:solidFill>
                <a:latin typeface="Verdana"/>
              </a:rPr>
              <a:t>5, 6 and 7th May, 2014 ACP Hous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Knowledge sharing platform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349360"/>
            <a:ext cx="6912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apacity4dev.eu: EC’s Knowledge Sharing Platform on Develop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20640"/>
            <a:ext cx="8507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apacity4dev.eu = CD through Knowledge Sharing!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omote Capacity Development as a priority of our cooper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4 pillars : </a:t>
            </a:r>
            <a:br>
              <a:rPr sz="1800"/>
            </a:br>
            <a:r>
              <a:rPr b="1" i="1" lang="en-GB" sz="1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onsolidate knowledge and build Institutional Memor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Thematic Expertise, break down the silo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good practice and innovation exchange / help identify speci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85680">
              <a:spcBef>
                <a:spcPts val="400"/>
              </a:spcBef>
              <a:spcAft>
                <a:spcPts val="601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Cross-learning among practitioners from EC, EEAS, MS, Donors, International Organisations, private sector, CSOs, Governments, Academia…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187280" y="3213000"/>
            <a:ext cx="604872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181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Personal Capacity :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Voices and views,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Make your work or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expertise visible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profile / people sec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Get support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from CoP / peers, find expertise in thematic group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collabora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ools in groups to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Build-up your Knowledge : group site / page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updates, ideas and ask questions:  Blogs 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hare your work, documents and files : Document library + Taxonomies / filter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Capitalise on your workshops : events pages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+ Task management, surveys etc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Lessons Learned &amp; experiences shared from other proje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rganisation's Capacity: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To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retain knowledg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/ stop reinventing of the wheel: knowledge online - not on emails : The nightma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Increas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dapt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change and resilience: retain capacity despite people turn around, reorganisations, staff cu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ross learn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mong thematics + among various parts of the institution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Open our knowledg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o and learn from partners, ngos, private sector, governments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Capital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n the huge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and expertis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at stem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from the implementation of thousands of projects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: today stays mostly with the consultants and NGOs implementing our programm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- Re-consolidat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the knowledge of hundreds of project / programme websites onto capacity4dev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- Offer an open consultation space : internal and extern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000" y="1125360"/>
            <a:ext cx="6227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What is offered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7" name="Picture 6" descr="Topics   capacity4dev_testuser"/>
          <p:cNvPicPr/>
          <p:nvPr/>
        </p:nvPicPr>
        <p:blipFill>
          <a:blip r:embed="rId1"/>
          <a:srcRect l="0" t="0" r="0" b="32160"/>
          <a:stretch/>
        </p:blipFill>
        <p:spPr>
          <a:xfrm>
            <a:off x="179280" y="981000"/>
            <a:ext cx="271476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9"/>
          <p:cNvSpPr/>
          <p:nvPr/>
        </p:nvSpPr>
        <p:spPr>
          <a:xfrm>
            <a:off x="6300720" y="5052960"/>
            <a:ext cx="2521080" cy="16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Fast Fact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10000+ Professionals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 from all over the world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2600+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staff</a:t>
            </a: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(EC/EEAS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f5494"/>
                </a:solidFill>
                <a:latin typeface="Verdana"/>
              </a:rPr>
              <a:t>7400+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</a:rPr>
              <a:t> from Private Cos, CSOs, Government, Donors etc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380+ Knowledge piece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18800+ Posts</a:t>
            </a:r>
            <a:r>
              <a:rPr b="0" lang="fr-BE" sz="1100" spc="-1" strike="noStrike">
                <a:solidFill>
                  <a:srgbClr val="0f5494"/>
                </a:solidFill>
                <a:latin typeface="Verdana"/>
              </a:rPr>
              <a:t> in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100" spc="-1" strike="noStrike">
                <a:solidFill>
                  <a:srgbClr val="0f5494"/>
                </a:solidFill>
                <a:latin typeface="Verdana"/>
              </a:rPr>
              <a:t>300+  Group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9" name="Picture 10" descr="adevanssay   capacity4dev"/>
          <p:cNvPicPr/>
          <p:nvPr/>
        </p:nvPicPr>
        <p:blipFill>
          <a:blip r:embed="rId2"/>
          <a:srcRect l="0" t="0" r="0" b="43809"/>
          <a:stretch/>
        </p:blipFill>
        <p:spPr>
          <a:xfrm>
            <a:off x="3635280" y="5048280"/>
            <a:ext cx="2192400" cy="16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0" name="Picture 13" descr="energy group capacity4dev_testuser"/>
          <p:cNvPicPr/>
          <p:nvPr/>
        </p:nvPicPr>
        <p:blipFill>
          <a:blip r:embed="rId3"/>
          <a:srcRect l="0" t="0" r="0" b="49203"/>
          <a:stretch/>
        </p:blipFill>
        <p:spPr>
          <a:xfrm>
            <a:off x="395280" y="4456080"/>
            <a:ext cx="2735280" cy="199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AutoShape 12"/>
          <p:cNvSpPr/>
          <p:nvPr/>
        </p:nvSpPr>
        <p:spPr>
          <a:xfrm rot="505200">
            <a:off x="684360" y="3933360"/>
            <a:ext cx="1152360" cy="50508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AutoShape 14"/>
          <p:cNvSpPr/>
          <p:nvPr/>
        </p:nvSpPr>
        <p:spPr>
          <a:xfrm flipH="1" rot="10800000">
            <a:off x="2916360" y="6308280"/>
            <a:ext cx="1295280" cy="5050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117280"/>
                <a:lnTo>
                  <a:pt x="21331" y="15894"/>
                </a:lnTo>
                <a:lnTo>
                  <a:pt x="17280" y="21600"/>
                </a:lnTo>
                <a:lnTo>
                  <a:pt x="12691" y="15894"/>
                </a:lnTo>
                <a:lnTo>
                  <a:pt x="14851" y="15894"/>
                </a:lnTo>
                <a:arcTo wR="7560" hR="21600" stAng="-2282720" swAng="-2759845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3130560" y="1557360"/>
            <a:ext cx="5834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Access to a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large community of development practitioners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from across the worl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ver 380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knowledge pieces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(Voices and Views) on a great variety of themes backed with video and references updated weekl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Knowledge sharing tools for teams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: Fully fledged free Groupware for the development community: Public or Private groups with: Group site, Blog, full document library, events, survey tool, project management tool, group chat, members rooster, powerful search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Projects :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hare knowledge on projects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Your profile page, mail notifications, personal 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recommendations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ecure hosting (EC Infrastructure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hallenges ahea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Just started: Redevelopment in 2014 to move to Drupal 7 : an opportunity to re-architecture the site and deliver better on key challeng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Incentives: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build an conducive framework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Learning Portal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scorm compliant, eLearning, catalogues, course list,   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racking etc – Pilot for the new external LMS of the COM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Projects + links to corporate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pull data from Financial, GIS, PM..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Online work tool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(spreadsheets, doc based collaboration)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Mobile and Multilingual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ig out valu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Improved recommendations tool (who recommend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Usability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improvements across the board : look and feel and workflow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fr-FR" sz="1600" spc="-1" strike="noStrike">
                <a:solidFill>
                  <a:srgbClr val="0f5494"/>
                </a:solidFill>
                <a:latin typeface="Verdana"/>
              </a:rPr>
              <a:t>Low bandwidt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&gt;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Widen Branding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: DEVCO </a:t>
            </a:r>
            <a:r>
              <a:rPr b="0" lang="en-GB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EU ?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Join the community today!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492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As simple as … 1,2,3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1. Become a member of capacity4dev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. Look for groups you should be joining and request membershi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3. … start learning and contributing your experience!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We are here to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help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you come on-boar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Find us on our stand on the first floor during coffee break!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www.capacity4dev.eu/contac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capacity4dev@ec.europa.eu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ndiaye</cp:lastModifiedBy>
  <cp:lastPrinted>2012-06-05T13:31:28Z</cp:lastPrinted>
  <dcterms:modified xsi:type="dcterms:W3CDTF">2014-05-07T08:05:08Z</dcterms:modified>
  <cp:revision>136</cp:revision>
  <dc:subject/>
  <dc:title>Slide 1</dc:title>
</cp:coreProperties>
</file>